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jpeg" ContentType="image/jpeg"/>
  <Override PartName="/ppt/media/image1.png" ContentType="image/png"/>
  <Override PartName="/ppt/media/image23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Lucida Sans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F967975-DF1D-48FF-ADBE-9A4D74FB84C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E4A2359-CD85-4F0E-971D-2E461E166349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93485F2-AFB3-42ED-B539-8069CF8D1179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83227D1-8D04-42EB-804F-E598BC644DE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44A331E-218E-441E-B4CF-2BE630F8225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CBE3195-C572-4C60-9A57-64872BB00E1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B71D44C-4A70-4A77-B957-965E436BD079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Qui si comprimono le sequenze binarie mediante R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794D-5002-4A2C-937E-EA38B7562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7991-8EA3-4D18-A2BD-0F13B6AA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2195-A9C1-49E8-B565-9ADD77A8E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9AC3-A4A2-49D7-B52F-2313B33E5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8446-4018-4C11-A4ED-6A026686E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5A40-0E6B-4367-8EE4-49DB17F6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AC06-B7B5-46F9-A4AA-372EEB60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F1CD-2D41-4110-8094-E04FDA52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3B81-1C25-4B9D-9CCA-0EE4EC5E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A48D-8850-4999-8E93-FE4BFF5C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F48D-392F-45BD-BC1A-1F07B3BB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4BB0-CE6B-49F6-9F5D-7C41F183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160D-667B-4E7B-A575-AAFA8BF7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2807-0048-44AD-88A7-DCCBEA52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4BEC-CF94-4EB3-B4F1-62F910E1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04EC-F84B-45BA-BD1C-B21917762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8F27-50DE-4EDB-A6DF-96FBE0174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1095-9D41-4955-B8A0-D6A76E6A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DA25-69C1-4364-9597-96BE0655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6615-2FDC-4919-8868-08768D03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B12C-9AA3-4202-B111-0AE44CE9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05A0-1FFB-49EE-AEE5-2EA4E32B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7844-7F58-4009-8B7E-DFB2DEE4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E605-48E3-4A31-89A3-2F204BB4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3F90-EE5E-413E-844A-070784AF56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7F9C-D3B9-4870-916B-BA7900915422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hyperlink" Target="http://en.wikipedia.org/wiki/Bulk_synchronous_parallel" TargetMode="External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his page is a new one 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281800" cy="44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Check if the page has been parsed/downloaded befor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URL match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7030a0"/>
                </a:solidFill>
                <a:latin typeface="Lucida Sans"/>
              </a:rPr>
              <a:t>Duplicate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document</a:t>
            </a: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match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7030a0"/>
                </a:solidFill>
                <a:latin typeface="Lucida Sans"/>
              </a:rPr>
              <a:t>Near</a:t>
            </a: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-duplicate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document</a:t>
            </a: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match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74320" indent="-274320">
              <a:lnSpc>
                <a:spcPct val="80000"/>
              </a:lnSpc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Some solutions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59436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Hashing on URL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indent="-182880">
              <a:lnSpc>
                <a:spcPct val="150000"/>
              </a:lnSpc>
              <a:spcBef>
                <a:spcPts val="4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after 50 bln pages, we have </a:t>
            </a:r>
            <a:r>
              <a:rPr b="0" lang="ja-JP" sz="1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seen</a:t>
            </a:r>
            <a:r>
              <a:rPr b="0" lang="ja-JP" sz="1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over 500 bln URL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indent="-18288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each URL is at least 1000 bytes on averag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indent="-18288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Lucida Sans"/>
              </a:rPr>
              <a:t>Overall we have about 500.000 Tb (=500 Pb) for just the URL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59436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Disk access with caching  (e.g. Altavista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indent="-1828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&gt; 5 ms per URL check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indent="-1828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&gt; 5 ms * 5 * 10</a:t>
            </a:r>
            <a:r>
              <a:rPr b="0" lang="en-US" sz="1600" spc="-1" strike="noStrike" baseline="38000">
                <a:solidFill>
                  <a:srgbClr val="000000"/>
                </a:solidFill>
                <a:latin typeface="Lucida Sans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URL-checks =&gt; 80 years/1PC =&gt; 30gg/1000</a:t>
            </a:r>
            <a:r>
              <a:rPr b="0" lang="en-US" sz="1600" spc="-1" strike="noStrike" baseline="38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PC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59436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Bloom Filter (Archive)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indent="-1828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For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500 bln URLs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about 500 Tbit = 50Tb   </a:t>
            </a:r>
            <a:r>
              <a:rPr b="0" i="1" lang="en-US" sz="1600" spc="-1" strike="noStrike">
                <a:solidFill>
                  <a:srgbClr val="333399"/>
                </a:solidFill>
                <a:latin typeface="Lucida Sans"/>
              </a:rPr>
              <a:t>[cfr. 1/1000 hashing]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38" name="Immagin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41" name="Immagin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Rettangolo con angoli arrotondati 1"/>
          <p:cNvSpPr/>
          <p:nvPr/>
        </p:nvSpPr>
        <p:spPr>
          <a:xfrm>
            <a:off x="6259680" y="4076640"/>
            <a:ext cx="223200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Lucida Sans"/>
              </a:rPr>
              <a:t>Not considered in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Lucida Sans"/>
              </a:rPr>
              <a:t>these slide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45" name="Immagine 3" descr=""/>
          <p:cNvPicPr/>
          <p:nvPr/>
        </p:nvPicPr>
        <p:blipFill>
          <a:blip r:embed="rId2"/>
          <a:stretch/>
        </p:blipFill>
        <p:spPr>
          <a:xfrm>
            <a:off x="71280" y="0"/>
            <a:ext cx="9072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48" name="Immagine 3" descr=""/>
          <p:cNvPicPr/>
          <p:nvPr/>
        </p:nvPicPr>
        <p:blipFill>
          <a:blip r:embed="rId2"/>
          <a:stretch/>
        </p:blipFill>
        <p:spPr>
          <a:xfrm>
            <a:off x="66600" y="0"/>
            <a:ext cx="90108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Callout 1 1"/>
          <p:cNvSpPr/>
          <p:nvPr/>
        </p:nvSpPr>
        <p:spPr>
          <a:xfrm>
            <a:off x="6012000" y="2781360"/>
            <a:ext cx="2016000" cy="216000"/>
          </a:xfrm>
          <a:prstGeom prst="borderCallout1">
            <a:avLst>
              <a:gd name="adj1" fmla="val 18750"/>
              <a:gd name="adj2" fmla="val -8333"/>
              <a:gd name="adj3" fmla="val 140717"/>
              <a:gd name="adj4" fmla="val -74615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Lucida Sans"/>
              </a:rPr>
              <a:t>Minimum selection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52" name="Immagin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55" name="Immagin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arallel Crawler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Web is too big to be crawled by a single crawler, work should be divided </a:t>
            </a:r>
            <a:r>
              <a:rPr b="1" lang="en-US" sz="2200" spc="-1" strike="noStrike">
                <a:solidFill>
                  <a:srgbClr val="ff0000"/>
                </a:solidFill>
                <a:latin typeface="Lucida Sans"/>
              </a:rPr>
              <a:t>avoiding duplication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Dynamic assignmen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entral coordinator dynamically assigns URLs to crawl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It needs communication bwt coordinator/crawl thread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Static assignmen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eb is statically partitioned and assigned to crawl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rawler only crawls its part of the web,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no need of coordinator and thus communic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wo problems with static assignmen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1752120"/>
            <a:ext cx="84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Load balancing the #URLs assigned to crawlers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Static schemes based on hosts may fai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www.geocities.com/…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www.di.unipi.it/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ynamic </a:t>
            </a:r>
            <a:r>
              <a:rPr b="0" i="1" lang="ja-JP" sz="20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relocation</a:t>
            </a:r>
            <a:r>
              <a:rPr b="0" i="1" lang="ja-JP" sz="20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 schemes may be complicat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Managing the fault-tolerance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What about the death of downloaders ?  D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-1, </a:t>
            </a:r>
            <a:r>
              <a:rPr b="1" i="1" lang="en-US" sz="2000" spc="-1" strike="noStrike">
                <a:solidFill>
                  <a:srgbClr val="7030a0"/>
                </a:solidFill>
                <a:latin typeface="Lucida Sans"/>
              </a:rPr>
              <a:t>new hash !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What about new downloaders ? D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+1, </a:t>
            </a:r>
            <a:r>
              <a:rPr b="1" i="1" lang="en-US" sz="2000" spc="-1" strike="noStrike">
                <a:solidFill>
                  <a:srgbClr val="7030a0"/>
                </a:solidFill>
                <a:latin typeface="Lucida Sans"/>
              </a:rPr>
              <a:t>new hash !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6500880" y="1628640"/>
            <a:ext cx="2643120" cy="2735280"/>
          </a:xfrm>
          <a:custGeom>
            <a:avLst/>
            <a:gdLst>
              <a:gd name="textAreaLeft" fmla="*/ 128880 w 2643120"/>
              <a:gd name="textAreaRight" fmla="*/ 2514240 w 2643120"/>
              <a:gd name="textAreaTop" fmla="*/ 128880 h 2735280"/>
              <a:gd name="textAreaBottom" fmla="*/ 2606400 h 2735280"/>
            </a:gdLst>
            <a:ahLst/>
            <a:rect l="textAreaLeft" t="textAreaTop" r="textAreaRight" b="textAreaBottom"/>
            <a:pathLst>
              <a:path w="21600" h="22353">
                <a:moveTo>
                  <a:pt x="3600" y="0"/>
                </a:moveTo>
                <a:arcTo wR="3600" hR="3600" stAng="16200000" swAng="-5400000"/>
                <a:lnTo>
                  <a:pt x="0" y="18753"/>
                </a:lnTo>
                <a:arcTo wR="3600" hR="3600" stAng="10800000" swAng="-5400000"/>
                <a:lnTo>
                  <a:pt x="18000" y="223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Let D be the number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of crawlers.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hash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(URL) maps an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URL to {0,...,D-1}.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Crawler x manages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the URLs U s.t.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hash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(U) = x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Which hash would you use?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 nice technique: </a:t>
            </a:r>
            <a:r>
              <a:rPr b="0" lang="en-US" sz="3200" spc="-1" strike="noStrike">
                <a:solidFill>
                  <a:srgbClr val="3333cc"/>
                </a:solidFill>
                <a:latin typeface="Lucida Sans"/>
              </a:rPr>
              <a:t>Consistent Hashing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A tool for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Spidering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Web Cach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P2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Routers Load Balanc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istributed F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3924360" y="1576440"/>
            <a:ext cx="50403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Item </a:t>
            </a:r>
            <a:r>
              <a:rPr b="0" i="1" lang="en-US" sz="1600" spc="-1" strike="noStrike">
                <a:solidFill>
                  <a:srgbClr val="ff0000"/>
                </a:solidFill>
                <a:latin typeface="Lucida Sans"/>
              </a:rPr>
              <a:t>and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servers mapped to unit circle via hash function ID(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Item K assigned to first server N such that ID(N) ≥ ID(K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Lucida Sans"/>
              </a:rPr>
              <a:t>What if a crawler goes down?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Lucida Sans"/>
              </a:rPr>
              <a:t>What if a new crawler appears?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1"/>
          <a:stretch/>
        </p:blipFill>
        <p:spPr>
          <a:xfrm>
            <a:off x="324000" y="4365720"/>
            <a:ext cx="3809880" cy="220500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10"/>
          <p:cNvGrpSpPr/>
          <p:nvPr/>
        </p:nvGrpSpPr>
        <p:grpSpPr>
          <a:xfrm>
            <a:off x="4143240" y="4302000"/>
            <a:ext cx="4954320" cy="2286000"/>
            <a:chOff x="4143240" y="4302000"/>
            <a:chExt cx="4954320" cy="2286000"/>
          </a:xfrm>
        </p:grpSpPr>
        <p:sp>
          <p:nvSpPr>
            <p:cNvPr id="166" name="Text Box 8"/>
            <p:cNvSpPr/>
            <p:nvPr/>
          </p:nvSpPr>
          <p:spPr>
            <a:xfrm>
              <a:off x="4318200" y="4319640"/>
              <a:ext cx="4128120" cy="22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3333cc"/>
                  </a:solidFill>
                  <a:latin typeface="Tahoma"/>
                </a:rPr>
                <a:t>Each server gets replicated log S times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3333cc"/>
                  </a:solidFill>
                  <a:latin typeface="Tahoma"/>
                </a:rPr>
                <a:t>[monotone]</a:t>
              </a:r>
              <a:r>
                <a:rPr b="0" lang="it-IT" sz="1400" spc="-1" strike="noStrike">
                  <a:solidFill>
                    <a:srgbClr val="000000"/>
                  </a:solidFill>
                  <a:latin typeface="Tahoma"/>
                </a:rPr>
                <a:t> adding a new server moves points 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ahoma"/>
                </a:rPr>
                <a:t>between an old server to the new one, only.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3333cc"/>
                  </a:solidFill>
                  <a:latin typeface="Tahoma"/>
                </a:rPr>
                <a:t>[balance]</a:t>
              </a:r>
              <a:r>
                <a:rPr b="0" lang="it-IT" sz="1400" spc="-1" strike="noStrike">
                  <a:solidFill>
                    <a:srgbClr val="000000"/>
                  </a:solidFill>
                  <a:latin typeface="Tahoma"/>
                </a:rPr>
                <a:t> Prob item goes to a server is ≤ O(1)/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3333cc"/>
                  </a:solidFill>
                  <a:latin typeface="Tahoma"/>
                </a:rPr>
                <a:t>[load]</a:t>
              </a:r>
              <a:r>
                <a:rPr b="0" lang="it-IT" sz="1400" spc="-1" strike="noStrike">
                  <a:solidFill>
                    <a:srgbClr val="000000"/>
                  </a:solidFill>
                  <a:latin typeface="Tahoma"/>
                </a:rPr>
                <a:t> any server gets  ≤  (I/S) log S items w.h.p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3333cc"/>
                  </a:solidFill>
                  <a:latin typeface="Tahoma"/>
                </a:rPr>
                <a:t>[scale]</a:t>
              </a:r>
              <a:r>
                <a:rPr b="0" lang="it-IT" sz="1400" spc="-1" strike="noStrike">
                  <a:solidFill>
                    <a:srgbClr val="000000"/>
                  </a:solidFill>
                  <a:latin typeface="Tahoma"/>
                </a:rPr>
                <a:t> you can copy each server more times...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7" name="Rectangle 9"/>
            <p:cNvSpPr/>
            <p:nvPr/>
          </p:nvSpPr>
          <p:spPr>
            <a:xfrm>
              <a:off x="4143240" y="4302000"/>
              <a:ext cx="4954320" cy="2286000"/>
            </a:xfrm>
            <a:prstGeom prst="rect">
              <a:avLst/>
            </a:prstGeom>
            <a:noFill/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Open Source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80643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Nutch (+ hadoop), also used by WikiSearch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http://nutch.apache.org/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70" name="Picture 1" descr=""/>
          <p:cNvPicPr/>
          <p:nvPr/>
        </p:nvPicPr>
        <p:blipFill>
          <a:blip r:embed="rId1"/>
          <a:stretch/>
        </p:blipFill>
        <p:spPr>
          <a:xfrm>
            <a:off x="755640" y="2997360"/>
            <a:ext cx="738036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s the page new?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[Bloom Filter, 1970]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4920" y="175212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Create a binary array B[1,m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nsider a family of k hash functions that map a key (URL) to a position (integer) in 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rcRect l="0" t="45726" r="0" b="0"/>
          <a:stretch/>
        </p:blipFill>
        <p:spPr>
          <a:xfrm>
            <a:off x="1187280" y="4365720"/>
            <a:ext cx="6181920" cy="1204920"/>
          </a:xfrm>
          <a:prstGeom prst="rect">
            <a:avLst/>
          </a:prstGeom>
          <a:ln w="0">
            <a:noFill/>
          </a:ln>
        </p:spPr>
      </p:pic>
      <p:sp>
        <p:nvSpPr>
          <p:cNvPr id="95" name="Rounded Rectangle 7"/>
          <p:cNvSpPr/>
          <p:nvPr/>
        </p:nvSpPr>
        <p:spPr>
          <a:xfrm>
            <a:off x="34920" y="6021360"/>
            <a:ext cx="6121440" cy="792360"/>
          </a:xfrm>
          <a:prstGeom prst="roundRect">
            <a:avLst>
              <a:gd name="adj" fmla="val 16667"/>
            </a:avLst>
          </a:prstGeom>
          <a:solidFill>
            <a:srgbClr val="0072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Pro: No need to store keys, less comple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≈ </a:t>
            </a: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50*X bln bytes </a:t>
            </a:r>
            <a:r>
              <a:rPr b="0" i="1" lang="it-IT" sz="2000" spc="-1" strike="noStrike">
                <a:solidFill>
                  <a:srgbClr val="ffffff"/>
                </a:solidFill>
                <a:latin typeface="Lucida Sans"/>
              </a:rPr>
              <a:t>versus </a:t>
            </a: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50.000 bln chars/byt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Rounded Rectangle 6"/>
          <p:cNvSpPr/>
          <p:nvPr/>
        </p:nvSpPr>
        <p:spPr>
          <a:xfrm>
            <a:off x="6300720" y="6021360"/>
            <a:ext cx="2808360" cy="792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Cons: false positiv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" name="CasellaDiTesto 1"/>
          <p:cNvSpPr/>
          <p:nvPr/>
        </p:nvSpPr>
        <p:spPr>
          <a:xfrm>
            <a:off x="642240" y="420228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CasellaDiTesto 2"/>
          <p:cNvSpPr/>
          <p:nvPr/>
        </p:nvSpPr>
        <p:spPr>
          <a:xfrm>
            <a:off x="6353280" y="4294080"/>
            <a:ext cx="296640" cy="337320"/>
          </a:xfrm>
          <a:prstGeom prst="rect">
            <a:avLst/>
          </a:prstGeom>
          <a:solidFill>
            <a:srgbClr val="f2f2f2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Lucida San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CasellaDiTesto 9"/>
          <p:cNvSpPr/>
          <p:nvPr/>
        </p:nvSpPr>
        <p:spPr>
          <a:xfrm>
            <a:off x="6062040" y="489888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k=3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ompressed storag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of the Web-graph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Defin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000" y="1752120"/>
            <a:ext cx="791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Directed graph G = (V,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295280" indent="-38088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Lucida Sans"/>
              </a:rPr>
              <a:t>V = URLs, E = (u,v) if u has an hyperlink to </a:t>
            </a:r>
            <a:r>
              <a:rPr b="0" i="1" lang="en-GB" sz="2000" spc="-1" strike="noStrike">
                <a:solidFill>
                  <a:srgbClr val="000000"/>
                </a:solidFill>
                <a:latin typeface="Lucida San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Isolated URLs are ignored (no IN &amp; no OUT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Lucida Sans"/>
              </a:rPr>
              <a:t>Three key propertie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-457200" algn="just">
              <a:lnSpc>
                <a:spcPct val="116000"/>
              </a:lnSpc>
              <a:spcBef>
                <a:spcPts val="788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Skewed distribu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Pb that a node has x links i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/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≈ 2.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he In-degree distribu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76" name="Picture 3" descr="indeg_altav"/>
          <p:cNvPicPr/>
          <p:nvPr/>
        </p:nvPicPr>
        <p:blipFill>
          <a:blip r:embed="rId1"/>
          <a:stretch/>
        </p:blipFill>
        <p:spPr>
          <a:xfrm>
            <a:off x="468360" y="1844640"/>
            <a:ext cx="3598920" cy="2700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indeg_webbase"/>
          <p:cNvPicPr/>
          <p:nvPr/>
        </p:nvPicPr>
        <p:blipFill>
          <a:blip r:embed="rId2"/>
          <a:stretch/>
        </p:blipFill>
        <p:spPr>
          <a:xfrm>
            <a:off x="4284720" y="1844640"/>
            <a:ext cx="4248000" cy="26910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5"/>
          <p:cNvSpPr/>
          <p:nvPr/>
        </p:nvSpPr>
        <p:spPr>
          <a:xfrm>
            <a:off x="1116000" y="4581360"/>
            <a:ext cx="308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imes New Roman"/>
              </a:rPr>
              <a:t>Altavista crawl, 1999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5290200" y="4581360"/>
            <a:ext cx="241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imes New Roman"/>
              </a:rPr>
              <a:t>WebBase Crawl 200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673920" y="5391000"/>
            <a:ext cx="427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imes New Roman"/>
              </a:rPr>
              <a:t>Indegree follows power law distribu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8"/>
              <p:cNvSpPr txBox="1"/>
              <p:nvPr/>
            </p:nvSpPr>
            <p:spPr>
              <a:xfrm>
                <a:off x="5194440" y="5300640"/>
                <a:ext cx="293508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in-degree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]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α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9"/>
              <p:cNvSpPr txBox="1"/>
              <p:nvPr/>
            </p:nvSpPr>
            <p:spPr>
              <a:xfrm>
                <a:off x="6350040" y="5972040"/>
                <a:ext cx="83340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Rectangle 9"/>
          <p:cNvSpPr/>
          <p:nvPr/>
        </p:nvSpPr>
        <p:spPr>
          <a:xfrm>
            <a:off x="633600" y="6413400"/>
            <a:ext cx="65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Lucida Sans"/>
              </a:rPr>
              <a:t>This is true also for: out-degree, size of CC and SCC,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Defin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000" y="1752120"/>
            <a:ext cx="791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Directed graph G = (V,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295280" indent="-38088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Lucida Sans"/>
              </a:rPr>
              <a:t>V = URLs, E = (u,v) if u has an hyperlink to </a:t>
            </a:r>
            <a:r>
              <a:rPr b="0" i="1" lang="en-GB" sz="2000" spc="-1" strike="noStrike">
                <a:solidFill>
                  <a:srgbClr val="000000"/>
                </a:solidFill>
                <a:latin typeface="Lucida San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Isolated URLs are ignored (no IN, no OUT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Lucida Sans"/>
              </a:rPr>
              <a:t>Three key propertie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-457200" algn="just">
              <a:lnSpc>
                <a:spcPct val="116000"/>
              </a:lnSpc>
              <a:spcBef>
                <a:spcPts val="788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Skewed distribu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Pb that a node has x links i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/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≈ 2.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-457200" algn="just">
              <a:lnSpc>
                <a:spcPct val="126000"/>
              </a:lnSpc>
              <a:spcBef>
                <a:spcPts val="788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Local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usually, most of the hyperlinks from URL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oint to other URLs that are in the same host of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about 80%)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-457200" algn="just">
              <a:lnSpc>
                <a:spcPct val="126000"/>
              </a:lnSpc>
              <a:spcBef>
                <a:spcPts val="788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Similar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if URLs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u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v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in the same host (hence they are close in lexicographic order - locality), then they tend to share many hyperlink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Picture of the Web Graph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87" name="Object 3"/>
          <p:cNvGraphicFramePr/>
          <p:nvPr/>
        </p:nvGraphicFramePr>
        <p:xfrm>
          <a:off x="971640" y="1844640"/>
          <a:ext cx="5545080" cy="33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44640"/>
                    <a:ext cx="55450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2484360" y="2565360"/>
            <a:ext cx="40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971640" y="342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5076720" y="1916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4140360" y="5661000"/>
            <a:ext cx="439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 millions of pages, 150millions of link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URL-sort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96" name="Picture 3" descr="A-spy"/>
          <p:cNvPicPr/>
          <p:nvPr/>
        </p:nvPicPr>
        <p:blipFill>
          <a:blip r:embed="rId1"/>
          <a:stretch/>
        </p:blipFill>
        <p:spPr>
          <a:xfrm>
            <a:off x="1720800" y="1752480"/>
            <a:ext cx="5702400" cy="48769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7737840" y="327024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for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Freeform 5"/>
          <p:cNvSpPr/>
          <p:nvPr/>
        </p:nvSpPr>
        <p:spPr>
          <a:xfrm>
            <a:off x="6981840" y="3676680"/>
            <a:ext cx="1085760" cy="819000"/>
          </a:xfrm>
          <a:custGeom>
            <a:avLst/>
            <a:gdLst>
              <a:gd name="textAreaLeft" fmla="*/ 0 w 1085760"/>
              <a:gd name="textAreaRight" fmla="*/ 1086120 w 1085760"/>
              <a:gd name="textAreaTop" fmla="*/ 0 h 819000"/>
              <a:gd name="textAreaBottom" fmla="*/ 819360 h 819000"/>
            </a:gdLst>
            <a:ahLst/>
            <a:rect l="textAreaLeft" t="textAreaTop" r="textAreaRight" b="textAreaBottom"/>
            <a:pathLst>
              <a:path w="684" h="516">
                <a:moveTo>
                  <a:pt x="684" y="0"/>
                </a:moveTo>
                <a:cubicBezTo>
                  <a:pt x="476" y="130"/>
                  <a:pt x="268" y="261"/>
                  <a:pt x="210" y="342"/>
                </a:cubicBezTo>
                <a:cubicBezTo>
                  <a:pt x="152" y="423"/>
                  <a:pt x="371" y="457"/>
                  <a:pt x="336" y="486"/>
                </a:cubicBezTo>
                <a:cubicBezTo>
                  <a:pt x="301" y="515"/>
                  <a:pt x="60" y="512"/>
                  <a:pt x="0" y="5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0" y="22860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kele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0" name="Freeform 7"/>
          <p:cNvSpPr/>
          <p:nvPr/>
        </p:nvSpPr>
        <p:spPr>
          <a:xfrm>
            <a:off x="1647720" y="2066760"/>
            <a:ext cx="781200" cy="466920"/>
          </a:xfrm>
          <a:custGeom>
            <a:avLst/>
            <a:gdLst>
              <a:gd name="textAreaLeft" fmla="*/ 0 w 781200"/>
              <a:gd name="textAreaRight" fmla="*/ 781560 w 781200"/>
              <a:gd name="textAreaTop" fmla="*/ 0 h 466920"/>
              <a:gd name="textAreaBottom" fmla="*/ 467280 h 466920"/>
            </a:gdLst>
            <a:ahLst/>
            <a:rect l="textAreaLeft" t="textAreaTop" r="textAreaRight" b="textAreaBottom"/>
            <a:pathLst>
              <a:path w="492" h="294">
                <a:moveTo>
                  <a:pt x="0" y="294"/>
                </a:moveTo>
                <a:cubicBezTo>
                  <a:pt x="109" y="271"/>
                  <a:pt x="219" y="249"/>
                  <a:pt x="228" y="210"/>
                </a:cubicBezTo>
                <a:cubicBezTo>
                  <a:pt x="237" y="171"/>
                  <a:pt x="10" y="95"/>
                  <a:pt x="54" y="60"/>
                </a:cubicBezTo>
                <a:cubicBezTo>
                  <a:pt x="98" y="25"/>
                  <a:pt x="295" y="12"/>
                  <a:pt x="492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Copy-lists: Locality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9631440" y="8310960"/>
            <a:ext cx="542880" cy="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3564000" y="1700280"/>
            <a:ext cx="4740120" cy="16732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82440" y="1945080"/>
            <a:ext cx="28195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compressed adjacency lis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306360" y="3933720"/>
            <a:ext cx="85298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lvl="1" algn="just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ocalit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most of the hyperlinks from URL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oint to other URLs that are in the same host of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about 80%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just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just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sts in the same domain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re close to each other in the lexicographically sorted order, and thus they get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lo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ocID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just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just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ress them via gap-encoding and variable-length representation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Copy-lists: Locality &amp; Similarity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9631440" y="8310960"/>
            <a:ext cx="542880" cy="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3564000" y="1700280"/>
            <a:ext cx="4740120" cy="16732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5"/>
          <p:cNvSpPr/>
          <p:nvPr/>
        </p:nvSpPr>
        <p:spPr>
          <a:xfrm>
            <a:off x="82440" y="1945080"/>
            <a:ext cx="28195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compressed adjacency lis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363600" y="5356080"/>
            <a:ext cx="852948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just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ach bit of the copy-list informs whether the corresponding successor of </a:t>
            </a:r>
            <a:r>
              <a:rPr b="0" i="1" lang="en-GB" sz="20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is also a successor of the reference </a:t>
            </a:r>
            <a:r>
              <a:rPr b="0" i="1" lang="en-GB" sz="20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just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eference index is the one in [0,W] that gives the best compression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11" name="Picture 7" descr=""/>
          <p:cNvPicPr/>
          <p:nvPr/>
        </p:nvPicPr>
        <p:blipFill>
          <a:blip r:embed="rId2"/>
          <a:stretch/>
        </p:blipFill>
        <p:spPr>
          <a:xfrm>
            <a:off x="3070080" y="3573360"/>
            <a:ext cx="5965920" cy="17733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8"/>
          <p:cNvSpPr/>
          <p:nvPr/>
        </p:nvSpPr>
        <p:spPr>
          <a:xfrm>
            <a:off x="119160" y="3588480"/>
            <a:ext cx="281916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Similar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if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u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v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close in the lexicographic order,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they tend to share many hyperlink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AutoShape 9"/>
          <p:cNvSpPr/>
          <p:nvPr/>
        </p:nvSpPr>
        <p:spPr>
          <a:xfrm>
            <a:off x="5722920" y="115920"/>
            <a:ext cx="3313080" cy="747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Reference copy-bac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are small (e.g. ≤8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Copy-blocks = RLE(Copy-list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9631440" y="8310960"/>
            <a:ext cx="542880" cy="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2965320" y="1557360"/>
            <a:ext cx="5965920" cy="17733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119160" y="2170440"/>
            <a:ext cx="281916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jacency list with copy lists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179280" y="5373720"/>
            <a:ext cx="83822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just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100" spc="-1" strike="noStrike">
                <a:solidFill>
                  <a:srgbClr val="0000ff"/>
                </a:solidFill>
                <a:latin typeface="Arial"/>
              </a:rPr>
              <a:t>first bit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specifies the first copy block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algn="just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Each RLE-length is decremented by one for all blocks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algn="just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100" spc="-1" strike="noStrike">
                <a:solidFill>
                  <a:srgbClr val="993366"/>
                </a:solidFill>
                <a:latin typeface="Arial"/>
              </a:rPr>
              <a:t>last block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is omitted (we know the length from </a:t>
            </a:r>
            <a:r>
              <a:rPr b="0" i="1" lang="en-GB" sz="2100" spc="-1" strike="noStrike">
                <a:solidFill>
                  <a:srgbClr val="ff0000"/>
                </a:solidFill>
                <a:latin typeface="Arial"/>
              </a:rPr>
              <a:t>Outd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2"/>
          <a:stretch/>
        </p:blipFill>
        <p:spPr>
          <a:xfrm>
            <a:off x="2771640" y="3487680"/>
            <a:ext cx="6193080" cy="174168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8"/>
          <p:cNvSpPr/>
          <p:nvPr/>
        </p:nvSpPr>
        <p:spPr>
          <a:xfrm>
            <a:off x="23760" y="3592800"/>
            <a:ext cx="28195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jacency list with copy block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40508"/>
                </a:solidFill>
                <a:latin typeface="Arial"/>
              </a:rPr>
              <a:t>(RLE on bit sequence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1" name="Oval 9"/>
          <p:cNvSpPr/>
          <p:nvPr/>
        </p:nvSpPr>
        <p:spPr>
          <a:xfrm>
            <a:off x="5008680" y="4154400"/>
            <a:ext cx="207720" cy="282600"/>
          </a:xfrm>
          <a:prstGeom prst="ellipse">
            <a:avLst/>
          </a:prstGeom>
          <a:noFill/>
          <a:ln w="36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2" name="AutoShape 10"/>
          <p:cNvSpPr/>
          <p:nvPr/>
        </p:nvSpPr>
        <p:spPr>
          <a:xfrm>
            <a:off x="4859280" y="2276640"/>
            <a:ext cx="217440" cy="288720"/>
          </a:xfrm>
          <a:custGeom>
            <a:avLst/>
            <a:gdLst>
              <a:gd name="textAreaLeft" fmla="*/ 360 w 217440"/>
              <a:gd name="textAreaRight" fmla="*/ 217080 w 217440"/>
              <a:gd name="textAreaTop" fmla="*/ 360 h 288720"/>
              <a:gd name="textAreaBottom" fmla="*/ 288360 h 288720"/>
            </a:gdLst>
            <a:ahLst/>
            <a:rect l="textAreaLeft" t="textAreaTop" r="textAreaRight" b="textAreaBottom"/>
            <a:pathLst>
              <a:path w="21600" h="28669">
                <a:moveTo>
                  <a:pt x="177" y="0"/>
                </a:moveTo>
                <a:arcTo wR="177" hR="177" stAng="16200000" swAng="-5400000"/>
                <a:lnTo>
                  <a:pt x="0" y="28492"/>
                </a:lnTo>
                <a:arcTo wR="177" hR="177" stAng="10800000" swAng="-5400000"/>
                <a:lnTo>
                  <a:pt x="21423" y="28669"/>
                </a:lnTo>
                <a:arcTo wR="177" hR="177" stAng="5400000" swAng="-5400000"/>
                <a:lnTo>
                  <a:pt x="21600" y="177"/>
                </a:lnTo>
                <a:arcTo wR="177" hR="177" stAng="0" swAng="-5400000"/>
                <a:close/>
              </a:path>
            </a:pathLst>
          </a:custGeom>
          <a:noFill/>
          <a:ln w="360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5219640" y="2276640"/>
            <a:ext cx="179280" cy="288720"/>
          </a:xfrm>
          <a:custGeom>
            <a:avLst/>
            <a:gdLst>
              <a:gd name="textAreaLeft" fmla="*/ 360 w 179280"/>
              <a:gd name="textAreaRight" fmla="*/ 178920 w 179280"/>
              <a:gd name="textAreaTop" fmla="*/ 360 h 288720"/>
              <a:gd name="textAreaBottom" fmla="*/ 288360 h 288720"/>
            </a:gdLst>
            <a:ahLst/>
            <a:rect l="textAreaLeft" t="textAreaTop" r="textAreaRight" b="textAreaBottom"/>
            <a:pathLst>
              <a:path w="21600" h="34759">
                <a:moveTo>
                  <a:pt x="177" y="0"/>
                </a:moveTo>
                <a:arcTo wR="177" hR="177" stAng="16200000" swAng="-5400000"/>
                <a:lnTo>
                  <a:pt x="0" y="34582"/>
                </a:lnTo>
                <a:arcTo wR="177" hR="177" stAng="10800000" swAng="-5400000"/>
                <a:lnTo>
                  <a:pt x="21423" y="34759"/>
                </a:lnTo>
                <a:arcTo wR="177" hR="177" stAng="5400000" swAng="-5400000"/>
                <a:lnTo>
                  <a:pt x="21600" y="177"/>
                </a:lnTo>
                <a:arcTo wR="177" hR="177" stAng="0" swAng="-5400000"/>
                <a:close/>
              </a:path>
            </a:pathLst>
          </a:custGeom>
          <a:noFill/>
          <a:ln w="360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5653080" y="4149720"/>
            <a:ext cx="142920" cy="287280"/>
          </a:xfrm>
          <a:custGeom>
            <a:avLst/>
            <a:gdLst/>
            <a:ahLst/>
            <a:rect l="l" t="t" r="r" b="b"/>
            <a:pathLst>
              <a:path w="21600" h="43363">
                <a:moveTo>
                  <a:pt x="177" y="0"/>
                </a:moveTo>
                <a:arcTo wR="177" hR="177" stAng="16200000" swAng="-5400000"/>
                <a:lnTo>
                  <a:pt x="0" y="43186"/>
                </a:lnTo>
                <a:arcTo wR="177" hR="177" stAng="10800000" swAng="-5400000"/>
                <a:lnTo>
                  <a:pt x="21423" y="43363"/>
                </a:lnTo>
                <a:arcTo wR="177" hR="177" stAng="5400000" swAng="-5400000"/>
                <a:lnTo>
                  <a:pt x="21600" y="177"/>
                </a:lnTo>
                <a:arcTo wR="177" hR="177" stAng="0" swAng="-5400000"/>
                <a:close/>
              </a:path>
            </a:pathLst>
          </a:custGeom>
          <a:noFill/>
          <a:ln w="360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5" name="AutoShape 13"/>
          <p:cNvSpPr/>
          <p:nvPr/>
        </p:nvSpPr>
        <p:spPr>
          <a:xfrm>
            <a:off x="5329080" y="4149720"/>
            <a:ext cx="179640" cy="287280"/>
          </a:xfrm>
          <a:custGeom>
            <a:avLst/>
            <a:gdLst>
              <a:gd name="textAreaLeft" fmla="*/ 360 w 179640"/>
              <a:gd name="textAreaRight" fmla="*/ 179280 w 179640"/>
              <a:gd name="textAreaTop" fmla="*/ 360 h 287280"/>
              <a:gd name="textAreaBottom" fmla="*/ 286920 h 287280"/>
            </a:gdLst>
            <a:ahLst/>
            <a:rect l="textAreaLeft" t="textAreaTop" r="textAreaRight" b="textAreaBottom"/>
            <a:pathLst>
              <a:path w="21600" h="34517">
                <a:moveTo>
                  <a:pt x="177" y="0"/>
                </a:moveTo>
                <a:arcTo wR="177" hR="177" stAng="16200000" swAng="-5400000"/>
                <a:lnTo>
                  <a:pt x="0" y="34340"/>
                </a:lnTo>
                <a:arcTo wR="177" hR="177" stAng="10800000" swAng="-5400000"/>
                <a:lnTo>
                  <a:pt x="21423" y="34517"/>
                </a:lnTo>
                <a:arcTo wR="177" hR="177" stAng="5400000" swAng="-5400000"/>
                <a:lnTo>
                  <a:pt x="21600" y="177"/>
                </a:lnTo>
                <a:arcTo wR="177" hR="177" stAng="0" swAng="-5400000"/>
                <a:close/>
              </a:path>
            </a:pathLst>
          </a:custGeom>
          <a:noFill/>
          <a:ln w="360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4643280" y="1557360"/>
            <a:ext cx="1081080" cy="18003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7" name="Rectangle 15"/>
          <p:cNvSpPr/>
          <p:nvPr/>
        </p:nvSpPr>
        <p:spPr>
          <a:xfrm>
            <a:off x="5003640" y="3500280"/>
            <a:ext cx="1152720" cy="18003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8" name="TextBox 16"/>
          <p:cNvSpPr/>
          <p:nvPr/>
        </p:nvSpPr>
        <p:spPr>
          <a:xfrm>
            <a:off x="5055840" y="4560840"/>
            <a:ext cx="395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Lucida Sans"/>
              </a:rPr>
              <a:t>1,3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9" name="Rettangolo arrotondato 1"/>
          <p:cNvSpPr/>
          <p:nvPr/>
        </p:nvSpPr>
        <p:spPr>
          <a:xfrm>
            <a:off x="6948360" y="5805360"/>
            <a:ext cx="2195640" cy="100836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More on extra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nodes, but not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here 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Rettangolo 2"/>
          <p:cNvSpPr/>
          <p:nvPr/>
        </p:nvSpPr>
        <p:spPr>
          <a:xfrm>
            <a:off x="4284720" y="4629240"/>
            <a:ext cx="1429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Lucida San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AutoShape 19"/>
          <p:cNvSpPr/>
          <p:nvPr/>
        </p:nvSpPr>
        <p:spPr>
          <a:xfrm>
            <a:off x="4788000" y="0"/>
            <a:ext cx="4356000" cy="692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This is a Java and C++ li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Lucida Sans"/>
              </a:rPr>
              <a:t>Called WebGraph ≈3 bits/edg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What about other graphs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000" y="1752480"/>
            <a:ext cx="7918200" cy="11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A directed graph G = (V,E) not necessarily satisfy Web properties abov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5216400" y="2349360"/>
            <a:ext cx="3865680" cy="2735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2"/>
          <a:stretch/>
        </p:blipFill>
        <p:spPr>
          <a:xfrm>
            <a:off x="662040" y="3249720"/>
            <a:ext cx="4194000" cy="1150920"/>
          </a:xfrm>
          <a:prstGeom prst="rect">
            <a:avLst/>
          </a:prstGeom>
          <a:ln w="0">
            <a:noFill/>
          </a:ln>
        </p:spPr>
      </p:pic>
      <p:grpSp>
        <p:nvGrpSpPr>
          <p:cNvPr id="236" name="Gruppo 5"/>
          <p:cNvGrpSpPr/>
          <p:nvPr/>
        </p:nvGrpSpPr>
        <p:grpSpPr>
          <a:xfrm>
            <a:off x="216000" y="4797360"/>
            <a:ext cx="6588000" cy="2073240"/>
            <a:chOff x="216000" y="4797360"/>
            <a:chExt cx="6588000" cy="2073240"/>
          </a:xfrm>
        </p:grpSpPr>
        <p:sp>
          <p:nvSpPr>
            <p:cNvPr id="237" name="Rettangolo 3"/>
            <p:cNvSpPr/>
            <p:nvPr/>
          </p:nvSpPr>
          <p:spPr>
            <a:xfrm>
              <a:off x="1908000" y="4797360"/>
              <a:ext cx="4896000" cy="20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Lucida Sans"/>
                </a:rPr>
                <a:t>Apache Giraph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Sans"/>
                </a:rPr>
                <a:t> is an iterative graph processing system built for high scalability. It is currently used at Facebook. Giraph originated as the open-source counterpart to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Lucida Sans"/>
                </a:rPr>
                <a:t>Pregel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Sans"/>
                </a:rPr>
                <a:t>, the graph processing architecture developed at Google (2010). Both systems are inspired by the </a:t>
              </a:r>
              <a:r>
                <a:rPr b="0" lang="en-US" sz="1600" spc="-1" strike="noStrike" u="sng">
                  <a:solidFill>
                    <a:srgbClr val="ff0000"/>
                  </a:solidFill>
                  <a:uFillTx/>
                  <a:latin typeface="Lucida Sans"/>
                  <a:hlinkClick r:id="rId3"/>
                </a:rPr>
                <a:t>Bulk Synchronous Parallel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Sans"/>
                </a:rPr>
                <a:t> model of distributed computation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238" name="Immagine 4" descr=""/>
            <p:cNvPicPr/>
            <p:nvPr/>
          </p:nvPicPr>
          <p:blipFill>
            <a:blip r:embed="rId4"/>
            <a:srcRect l="532" t="10518" r="80154" b="48107"/>
            <a:stretch/>
          </p:blipFill>
          <p:spPr>
            <a:xfrm>
              <a:off x="216000" y="4797360"/>
              <a:ext cx="1588320" cy="1913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6175440" y="3214800"/>
            <a:ext cx="53964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TT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7429680" y="3176640"/>
            <a:ext cx="3236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" name="Oval 7"/>
          <p:cNvSpPr/>
          <p:nvPr/>
        </p:nvSpPr>
        <p:spPr>
          <a:xfrm>
            <a:off x="6929280" y="2928960"/>
            <a:ext cx="285840" cy="2858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Oval 8"/>
          <p:cNvSpPr/>
          <p:nvPr/>
        </p:nvSpPr>
        <p:spPr>
          <a:xfrm>
            <a:off x="7429680" y="3929040"/>
            <a:ext cx="285480" cy="324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929280" y="2357280"/>
            <a:ext cx="285840" cy="360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2786040" y="2571840"/>
            <a:ext cx="2786040" cy="10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4529160" y="4508640"/>
            <a:ext cx="4075200" cy="76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113" name="Rettangolo 5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928800" y="4508640"/>
            <a:ext cx="4074840" cy="76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474840" y="5310360"/>
            <a:ext cx="8001000" cy="10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Rounded Rectangle 5"/>
          <p:cNvSpPr/>
          <p:nvPr/>
        </p:nvSpPr>
        <p:spPr>
          <a:xfrm>
            <a:off x="108000" y="5541840"/>
            <a:ext cx="6769080" cy="45720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Lucida Sans"/>
              </a:rPr>
              <a:t>Minimize prob. error for k = (m/n) ln 2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Rettangolo arrotondato 1"/>
          <p:cNvSpPr/>
          <p:nvPr/>
        </p:nvSpPr>
        <p:spPr>
          <a:xfrm>
            <a:off x="6516720" y="1752480"/>
            <a:ext cx="2448000" cy="13161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Lucida Sans"/>
              </a:rPr>
              <a:t>m/n = 30 bi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r>
              <a:rPr b="0" lang="it-IT" sz="2400" spc="-1" strike="noStrike">
                <a:solidFill>
                  <a:srgbClr val="ffffff"/>
                </a:solidFill>
                <a:latin typeface="Lucida Sans"/>
              </a:rPr>
              <a:t>= 4 * 10</a:t>
            </a:r>
            <a:r>
              <a:rPr b="0" lang="it-IT" sz="2400" spc="-1" strike="noStrike" baseline="42000">
                <a:solidFill>
                  <a:srgbClr val="ffffff"/>
                </a:solidFill>
                <a:latin typeface="Lucida Sans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5003640" y="4508640"/>
            <a:ext cx="4075200" cy="76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4788000" y="4437000"/>
            <a:ext cx="3925800" cy="85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= 0.62</a:t>
            </a:r>
            <a:r>
              <a:rPr b="0" lang="it-IT" sz="2400" spc="-1" strike="noStrike" baseline="44000">
                <a:solidFill>
                  <a:srgbClr val="ff0000"/>
                </a:solidFill>
                <a:latin typeface="Lucida Sans"/>
              </a:rPr>
              <a:t>m/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Rounded Rectangle 5"/>
          <p:cNvSpPr/>
          <p:nvPr/>
        </p:nvSpPr>
        <p:spPr>
          <a:xfrm>
            <a:off x="179280" y="6381720"/>
            <a:ext cx="8569440" cy="45720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Lucida Sans"/>
              </a:rPr>
              <a:t>Advantageous when (m/n) </a:t>
            </a:r>
            <a:r>
              <a:rPr b="0" lang="it-IT" sz="2400" spc="-1" strike="noStrike">
                <a:solidFill>
                  <a:srgbClr val="ffffff"/>
                </a:solidFill>
                <a:latin typeface="Calibri"/>
              </a:rPr>
              <a:t>« (key-length in bits + log n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23" name="Immagine 3" descr=""/>
          <p:cNvPicPr/>
          <p:nvPr/>
        </p:nvPicPr>
        <p:blipFill>
          <a:blip r:embed="rId2"/>
          <a:stretch/>
        </p:blipFill>
        <p:spPr>
          <a:xfrm>
            <a:off x="0" y="28440"/>
            <a:ext cx="9144000" cy="680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26" name="Immagin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29" name="Immagine 3" descr=""/>
          <p:cNvPicPr/>
          <p:nvPr/>
        </p:nvPicPr>
        <p:blipFill>
          <a:blip r:embed="rId2"/>
          <a:stretch/>
        </p:blipFill>
        <p:spPr>
          <a:xfrm>
            <a:off x="49320" y="0"/>
            <a:ext cx="9045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32" name="Immagine 3" descr=""/>
          <p:cNvPicPr/>
          <p:nvPr/>
        </p:nvPicPr>
        <p:blipFill>
          <a:blip r:embed="rId2"/>
          <a:stretch/>
        </p:blipFill>
        <p:spPr>
          <a:xfrm>
            <a:off x="44280" y="0"/>
            <a:ext cx="90554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35" name="Immagin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21-09-17T05:31:28Z</dcterms:modified>
  <cp:revision>1264</cp:revision>
  <dc:subject/>
  <dc:title>Web Algorithmics</dc:title>
</cp:coreProperties>
</file>